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A373-D5C4-4C16-A4F2-7DC4D57EF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2274-9663-45A1-B18F-E431629C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B43F-E71D-48CA-9059-DEB123719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8B0C-8795-46F4-BE85-5F8EDF9A9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1562-07F2-4D3A-B033-43059490E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F076-AF27-4655-AB5E-8AA7B767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CD99-BE36-416B-AC16-BD107E0C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6232-FF84-4C25-B46E-D29691EB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2942-B0F3-4730-B529-04EA8579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FA50D-0647-418E-8B64-5D759411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0DB4-D0EE-4BAE-AB6B-EF99363E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84CE-9229-4600-8D63-AE0CEF82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E119-B4EB-4193-9353-78DB7D25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C716C-E5D1-4479-BA70-3B1079AE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A76F-4D67-463E-80C2-74CA74FE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DA872-1858-49FC-B502-30493C371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3950-8C8F-42EC-9263-C97E3DF04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D4A0-6D53-4BF5-BBD7-41039899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8BDB-6DA5-4383-A57A-041B7D19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5A54-A67A-4732-8CB5-18ED5BB8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299D-D517-457A-8F35-B66751F4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C2FA-431F-4623-952E-24FA1A06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BAD7-89DC-4C14-A876-DF51D476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0921-AF9F-4A61-B6A6-424FF328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5075-E24B-4AE7-A5EA-5173A11BB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2889-2DBE-450C-A024-962DB41FC57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WORKPLACE VIOLENCE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343400" y="3505320"/>
            <a:ext cx="457056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ARROLL WARD EASTERN  REGIONAL SECURITY OFFICER</a:t>
            </a:r>
            <a:endParaRPr b="0" lang="en-US" sz="2800" spc="-1" strike="noStrike">
              <a:solidFill>
                <a:srgbClr val="78695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757-441-3431</a:t>
            </a:r>
            <a:endParaRPr b="0" lang="en-US" sz="2800" spc="-1" strike="noStrike">
              <a:solidFill>
                <a:srgbClr val="78695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AX: 757-441-3422</a:t>
            </a:r>
            <a:endParaRPr b="0" lang="en-US" sz="28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NCVC, FBI ACADEMY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 Kill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 Rap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place Vio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5400" spc="-1" strike="noStrike">
                <a:solidFill>
                  <a:srgbClr val="cc0000"/>
                </a:solidFill>
                <a:latin typeface="Times New Roman"/>
              </a:rPr>
              <a:t>Stressors are the sam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HO COMMITS WORKPLACE VIOLENCE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057040" y="24382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r Employ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PROFILE” OF A PERPETRATOR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240" y="2666520"/>
            <a:ext cx="7543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cc0000"/>
                </a:solidFill>
                <a:latin typeface="Times New Roman"/>
              </a:rPr>
              <a:t>THERE IS NO PROFIL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PATTERNS AND PROFILE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 for patterns rather than individual warning sig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iles can help identify potential problems However, they are not all inclusive or exclus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INDICATORS OF A PERPETRATOR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te m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 - 50 years 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Employ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Violent Behav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imidates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le Substance Ab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INDICATORS OF A PERPETRATOR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00200" y="23623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sessed with guns, gun magaz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ested in past acts of violence in the work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s open or veiled thre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sessed with 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INDICATORS OF A PERPETRATOR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828440" y="236232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n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’t take critic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lds a gru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HY DO SOME ACT OUT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7560" y="2971800"/>
            <a:ext cx="7391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NO  SUPPORT  SYSTE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HY MEN AS PERPETRATOR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981080" y="228600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aggress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ught not to seek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Tough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26665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30 - 40 % COMMIT SUICIDE OR “SUICIDE BY COP”</a:t>
            </a:r>
            <a:endParaRPr b="0" lang="en-US" sz="5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DEFINITION OF WORKPLACE VIOLENC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place violence is any physical assualt, threatening behavior, or verbal abuse occurring in the work 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orkplace my be any location either permanent or temporary where an employee performs any work-related d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HAT CAN AN ORGANIZATION DO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00200" y="2590920"/>
            <a:ext cx="72388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employees for downsiz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 humane termination poli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job skills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couns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17521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00"/>
                </a:solidFill>
                <a:latin typeface="Times New Roman"/>
              </a:rPr>
              <a:t>BETTER USE OF </a:t>
            </a:r>
            <a:br>
              <a:rPr sz="4800"/>
            </a:br>
            <a:r>
              <a:rPr b="1" lang="en-US" sz="4800" spc="-1" strike="noStrike">
                <a:solidFill>
                  <a:srgbClr val="996600"/>
                </a:solidFill>
                <a:latin typeface="Times New Roman"/>
              </a:rPr>
              <a:t>PRE-SCREENING AND</a:t>
            </a:r>
            <a:br>
              <a:rPr sz="4800"/>
            </a:br>
            <a:r>
              <a:rPr b="1" lang="en-US" sz="4800" spc="-1" strike="noStrike">
                <a:solidFill>
                  <a:srgbClr val="996600"/>
                </a:solidFill>
                <a:latin typeface="Times New Roman"/>
              </a:rPr>
              <a:t>BACKGROUND INVESTIGATIONS</a:t>
            </a:r>
            <a:br>
              <a:rPr sz="4800"/>
            </a:b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ECURITY OFFICER’S ROL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u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with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EDUCATE THE WORKFORC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24379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Workplace violence can and does happ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UPERVISORS ROL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prepared to listen to employee conc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fy Human Resources of potential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with organization E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fy Security of potential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PREPARE A RESPONSE PLA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yze past inci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ess potential for vio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ess prepared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6201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DEVELOP A RESPONSE TEAM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28800" y="22096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loyee Assistance Person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nel Special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cal Professio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 Enfor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ard 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l Pol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762012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HY DON’T EMPOYEES REPORT SUSPICIONS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52480" y="236232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ar of becoming a tar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ar of retal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want to get invol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1219320"/>
            <a:ext cx="746748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Times New Roman"/>
              </a:rPr>
              <a:t>WORKPLACE VIOLENCE IS BECOMING AN EPIDEMIC</a:t>
            </a:r>
            <a:endParaRPr b="0" lang="en-US" sz="66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752480" y="1981080"/>
            <a:ext cx="678204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QUESTIONS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ACTS OF WORKPLACE VIOLENC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3880" y="213372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avated assa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xual assa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 tamp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bo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ic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 acts committed during robb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IS WORKPLACE VIOLENCE AN EPIDEMIC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DC SAYS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olence has reached “epidemic proportion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1,000 violent incidents per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50 - 1,000 workplace homicides per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ORKPLACE VIOLENC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second leading cause of death in the workplace over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leading cause of death in the workplace for fem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out of 20 women will be the victim of a stal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HAT CAUSES VIOLENT ACTS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00200" y="24382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gruntled Employ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estic Disturb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usional Per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DISGRUNTLED EMPLOYE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828800" y="205740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ng Ten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ssor causes vio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 of the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DOMESTIC DISTURBANC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47560" y="2666880"/>
            <a:ext cx="7543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Violence spills over into the workpla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DELUSIONAL PERSO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520" y="2209680"/>
            <a:ext cx="716256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s against perceived to be wr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onnection to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27T11:15:56Z</dcterms:created>
  <dc:creator>Carroll Ward</dc:creator>
  <dc:description/>
  <dc:language>en-US</dc:language>
  <cp:lastModifiedBy>Carroll Ward</cp:lastModifiedBy>
  <dcterms:modified xsi:type="dcterms:W3CDTF">2002-09-12T19:27:04Z</dcterms:modified>
  <cp:revision>9</cp:revision>
  <dc:subject/>
  <dc:title>WORKPLACE VIOLENCE</dc:title>
</cp:coreProperties>
</file>